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338-C0A8-493E-ADAF-0974F191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D26-176B-4C66-B3B1-23C3226A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081-C0BD-4CEF-8C0F-780EA2F9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688A-F717-4880-8269-6D599999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9C7-8B91-4770-9BE5-82E8CB72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70F-BD9A-4F8E-825E-FC7CB7B6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7DF-3523-471C-8ABE-FBBF00B3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F2F-4CE7-4558-8EB6-92660038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156-55B2-42D2-934D-0FA7A961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474-4D14-422A-A422-CF5F7013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FDF-EBC6-4D27-B20E-19096814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15A-4911-44A1-9B60-61F527E3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C310-3D83-430A-A02A-66BB03C95FC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89000"/>
            <a:ext cx="9144000" cy="481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روحُ الر بِّ عَـليَّ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لأشفي القلوب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وباً كسيرة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عتقَ الأسرى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هب العميانَ البصر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330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يف يؤمنون إن لم يسمعوا كيف يسمعون بلا مبشّر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بشّرون إن لم يرسَلو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37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ا أجمل أقدام الـمبشري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ـمبشرين بالسلا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ـمبشرين بالخير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ا أنا مرسل ملاكي يهيّئ الطريق أمامي وللوقت يأتي السيد الذي تلتمسونه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أرسل ومن ينطلق؟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63120" y="-171360"/>
            <a:ext cx="6081480" cy="68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ت: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ا أنا ذا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رسلني.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4:49:48Z</dcterms:created>
  <dc:creator>Charbel Azar</dc:creator>
  <dc:description/>
  <dc:language>en-US</dc:language>
  <cp:lastModifiedBy>-</cp:lastModifiedBy>
  <dcterms:modified xsi:type="dcterms:W3CDTF">2002-12-16T07:38:35Z</dcterms:modified>
  <cp:revision>7</cp:revision>
  <dc:subject/>
  <dc:title>Slide 1</dc:title>
</cp:coreProperties>
</file>